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1.png" ContentType="image/png"/>
  <Override PartName="/ppt/media/image38.wmf" ContentType="image/x-wmf"/>
  <Override PartName="/ppt/media/image30.png" ContentType="image/png"/>
  <Override PartName="/ppt/media/image5.png" ContentType="image/png"/>
  <Override PartName="/ppt/media/image28.png" ContentType="image/png"/>
  <Override PartName="/ppt/media/image40.wmf" ContentType="image/x-wmf"/>
  <Override PartName="/ppt/media/image7.png" ContentType="image/png"/>
  <Override PartName="/ppt/media/image12.png" ContentType="image/png"/>
  <Override PartName="/ppt/media/image35.wmf" ContentType="image/x-wmf"/>
  <Override PartName="/ppt/media/image15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16.png" ContentType="image/png"/>
  <Override PartName="/ppt/media/image9.png" ContentType="image/png"/>
  <Override PartName="/ppt/media/image37.wmf" ContentType="image/x-wmf"/>
  <Override PartName="/ppt/media/image39.wmf" ContentType="image/x-wmf"/>
  <Override PartName="/ppt/media/image6.png" ContentType="image/png"/>
  <Override PartName="/ppt/media/image29.png" ContentType="image/png"/>
  <Override PartName="/ppt/media/image10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4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57CE-00F9-42F3-B754-9B0B4010D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1640-446D-46F8-AD1F-64553E2F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18A8-0703-49FE-B564-3C3EFE62E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7277-F825-4911-A05D-889EF2820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D684-FABF-4AFB-A870-DE3388F7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9848-9D8B-49B0-908A-56CAD22C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D50B-08EC-4E79-A993-2233CCFD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CA23-FEC0-4C9F-B8AE-F366574B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4AAA-7AC7-4E68-BFF0-2D6578FB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ED59-4146-4B3D-830F-B1A91BC3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82BA-897E-429D-867D-C68C9D25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8B93-CB9C-40B5-A4D2-8E533353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C115-AF68-4062-B083-E0F6A3600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0960" y="6248520"/>
            <a:ext cx="644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5 by Deitel &amp; Associates, Inc. and Pearson Education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0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utorial 18 –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icket Inform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pplication: Introducing Sequential Access Files</a:t>
            </a:r>
            <a:endParaRPr b="0" lang="en-US" sz="36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8.1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Write Event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icket Information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8.2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Data Hierarc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8.3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Files and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8.4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Write Event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: Writing to a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8.5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icket Information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8.6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Wrap-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icke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ormation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766880" y="1825560"/>
            <a:ext cx="5610240" cy="17337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r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ck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\Ticket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the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icket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 that changes to file were m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u added events to the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4480" y="1371600"/>
            <a:ext cx="53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ing another event and closing th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2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Data Hierarchy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mal digits, letters and symb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cter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haracters that a particular computer can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its (or “binary digits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hold two values, 0 o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tes consist of 8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CII (American Standard Code for Information Interchang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bits per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 to 32 bits per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2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Data Hierarchy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programs called database management 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ist of files (example: list of employe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ontain Records (example: one employe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ontain fields (example: employee’s na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field is designated as the record key and has a unique value among all records in the file (example: employee’s social security numb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35400" y="1600200"/>
            <a:ext cx="4271760" cy="4525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17120" y="1111320"/>
            <a:ext cx="288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hierarch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2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Data Hierarchy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iles and Stream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2136600"/>
            <a:ext cx="8229600" cy="11131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quence of bytes or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file ma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fstream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ader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fstrea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5560" y="1415880"/>
            <a:ext cx="615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++’s conceptual view of an n-byte file as a stre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: Writing to a File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275aff"/>
                </a:solidFill>
                <a:latin typeface="Times New Roman"/>
              </a:rPr>
              <a:t>Prompt the user for a file nam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275aff"/>
                </a:solidFill>
                <a:latin typeface="Times New Roman"/>
              </a:rPr>
              <a:t>Attempt to open the 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275aff"/>
                </a:solidFill>
                <a:latin typeface="Times New Roman"/>
              </a:rPr>
              <a:t>If the file was not opened successfully</a:t>
            </a:r>
            <a:br>
              <a:rPr sz="2100"/>
            </a:br>
            <a:r>
              <a:rPr b="0" i="1" lang="en-US" sz="2100" spc="-1" strike="noStrike">
                <a:solidFill>
                  <a:srgbClr val="275aff"/>
                </a:solidFill>
                <a:latin typeface="Times New Roman"/>
              </a:rPr>
              <a:t>Display an error message and exit the applic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275aff"/>
                </a:solidFill>
                <a:latin typeface="Times New Roman"/>
              </a:rPr>
              <a:t>Do</a:t>
            </a:r>
            <a:br>
              <a:rPr sz="2100"/>
            </a:br>
            <a:r>
              <a:rPr b="0" i="1" lang="en-US" sz="2100" spc="-1" strike="noStrike">
                <a:solidFill>
                  <a:srgbClr val="275aff"/>
                </a:solidFill>
                <a:latin typeface="Times New Roman"/>
              </a:rPr>
              <a:t>Prompt the user for the day, time, price, name and description of the eve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100" spc="-1" strike="noStrike">
                <a:solidFill>
                  <a:srgbClr val="275aff"/>
                </a:solidFill>
                <a:latin typeface="Times New Roman"/>
              </a:rPr>
              <a:t>Add the day of the event and a newline to the 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100" spc="-1" strike="noStrike">
                <a:solidFill>
                  <a:srgbClr val="275aff"/>
                </a:solidFill>
                <a:latin typeface="Times New Roman"/>
              </a:rPr>
              <a:t>Add the time of the event and a newline to the 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100" spc="-1" strike="noStrike">
                <a:solidFill>
                  <a:srgbClr val="275aff"/>
                </a:solidFill>
                <a:latin typeface="Times New Roman"/>
              </a:rPr>
              <a:t>Add the price of the event and a newline to the 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100" spc="-1" strike="noStrike">
                <a:solidFill>
                  <a:srgbClr val="275aff"/>
                </a:solidFill>
                <a:latin typeface="Times New Roman"/>
              </a:rPr>
              <a:t>Add the name of the event and a newline to the 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100" spc="-1" strike="noStrike">
                <a:solidFill>
                  <a:srgbClr val="275aff"/>
                </a:solidFill>
                <a:latin typeface="Times New Roman"/>
              </a:rPr>
              <a:t>Add a description of the event and a newline to the 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100" spc="-1" strike="noStrike">
                <a:solidFill>
                  <a:srgbClr val="275aff"/>
                </a:solidFill>
                <a:latin typeface="Times New Roman"/>
              </a:rPr>
              <a:t>Prompt the user whether there are more events to be add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275aff"/>
                </a:solidFill>
                <a:latin typeface="Times New Roman"/>
              </a:rPr>
              <a:t>While the user indicates that there are more events to ad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3280" y="1263600"/>
            <a:ext cx="552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seudocode for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 Ev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: Writing to a File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608200" y="2044800"/>
            <a:ext cx="6230880" cy="12952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fstream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ader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cessary for file processing with sequential-acces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stre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cstdlib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ader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cessary for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1040" y="1324080"/>
            <a:ext cx="657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fstream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stdlib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eader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riteEvent.cp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320" y="2286000"/>
            <a:ext cx="243828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fstream&g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stdlib&g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header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2666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" dur="1" fill="hold"/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4" dur="1" fill="hold"/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: Writing to a File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743200" y="2562120"/>
            <a:ext cx="6230880" cy="2600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13640" y="1547640"/>
            <a:ext cx="691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1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variables to store the file name, event inform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whether the application should input additional event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3962520"/>
            <a:ext cx="175284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ing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4114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5" dur="1" fill="hold"/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6" dur="1" fill="hold"/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: Writing to a File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665440" y="3048120"/>
            <a:ext cx="6249960" cy="1628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91760" y="1928880"/>
            <a:ext cx="573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1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rieving the file name that the user ente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3844800"/>
            <a:ext cx="20574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putting the file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39974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7" dur="1" fill="hold"/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8" dur="1" fill="hold"/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: Writing to a File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13160" y="1949400"/>
            <a:ext cx="6249960" cy="14860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35049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-open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s::ap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appends to preexisting fi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ing existing files wit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os::ap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ppends new data after ol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s::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truncates preexisting fi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ing existing files wit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os::o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iscards all of their previous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file does not exist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fstr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reates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ncti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_s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turns the contents as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4840" y="1386000"/>
            <a:ext cx="43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strea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bjec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2514600"/>
            <a:ext cx="175284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ing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strea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5120" y="28195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9" dur="1" fill="hold"/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0" dur="1" fill="hold"/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bjectiv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tutorial, you will learn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, read from, write to and update fi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derstand a computer’s data hierarch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come familiar with sequential-access file processing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 to read values and text from a sequential-access fi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f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 to write values and text to a sequential-access fi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to terminate the application and send an error message to the syste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: Writing to a File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751120" y="2557440"/>
            <a:ext cx="6240600" cy="2610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85280" y="1600200"/>
            <a:ext cx="722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1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iting the application if the specified file could not be open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320" y="2666880"/>
            <a:ext cx="259056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termining whether the file was opened successfu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297180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3768840"/>
            <a:ext cx="20574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iting the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39211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9" dur="1" fill="hold"/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0" dur="1" fill="hold"/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: Writing to a File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66880" y="2225520"/>
            <a:ext cx="5610240" cy="9334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Ev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r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st.tx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been created but does not contain any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6760" y="1523880"/>
            <a:ext cx="29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1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ng a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: Writing to a File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89120" y="2476440"/>
            <a:ext cx="6249960" cy="2772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92840" y="1700280"/>
            <a:ext cx="624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1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pting the user for and inputting the event d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44800"/>
            <a:ext cx="221004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taining the event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62320" y="3048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9974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4495680"/>
            <a:ext cx="2133720" cy="106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…whi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atement repeats until user indicates that there are no more events to 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286000" y="46483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9" dur="1" fill="hold"/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0" dur="1" fill="hold"/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: Writing to a File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13160" y="2305080"/>
            <a:ext cx="6249960" cy="3114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91400" y="1623960"/>
            <a:ext cx="694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1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putting the time, price, event name and event descrip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3429000"/>
            <a:ext cx="182880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taining the event time, price, name and 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133720" y="3200040"/>
            <a:ext cx="1447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133720" y="365724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388620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3886200"/>
            <a:ext cx="1447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7" dur="1" fill="hold"/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8" dur="1" fill="hold"/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9" dur="1" fill="hold"/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0" dur="1" fill="hold"/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1" dur="1" fill="hold"/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: Writing to a File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13160" y="1787400"/>
            <a:ext cx="6249960" cy="18097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cading the stream insertion operator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fstr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utput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4480" y="1339920"/>
            <a:ext cx="44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1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ending user input to th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2289240"/>
            <a:ext cx="228600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ending the event date, time, price, name and description to the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38280" y="2670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2" dur="1" fill="hold"/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33" dur="1" fill="hold"/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: Writing to a File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674800" y="2948040"/>
            <a:ext cx="6240600" cy="18288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93560" y="1928880"/>
            <a:ext cx="571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1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ing if there are more events to en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320" y="3429000"/>
            <a:ext cx="24382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termining whether there are more events to 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373392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4" dur="1" fill="hold"/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45" dur="1" fill="hold"/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: Writing to a File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66880" y="3338640"/>
            <a:ext cx="5610240" cy="10476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65200" y="1852560"/>
            <a:ext cx="386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2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ing a file for wri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: Writing to a File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766880" y="3110040"/>
            <a:ext cx="5610240" cy="15048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93560" y="2019240"/>
            <a:ext cx="627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2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ng the Arts and Crafts Fair event 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st.tx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: Writing to a File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19520" y="3205080"/>
            <a:ext cx="5600520" cy="1314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87440" y="2004840"/>
            <a:ext cx="709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2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quential-access file generated b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3733920"/>
            <a:ext cx="175284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written to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33720" y="38862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6" dur="1" fill="hold"/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57" dur="1" fill="hold"/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0" y="0"/>
          <a:ext cx="6856560" cy="551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6858000" y="4572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riteEvent.cpp (1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914400"/>
            <a:ext cx="2590560" cy="106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fstream&g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header file to access files and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stdlib&g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header file to use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952880" y="1447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77120" y="3809880"/>
            <a:ext cx="16002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e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809520" y="39625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6" dur="1" fill="hold"/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77" dur="1" fill="hold"/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icke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ormation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88960" y="2800440"/>
            <a:ext cx="796464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0" y="0"/>
          <a:ext cx="6856560" cy="425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6858000" y="4572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riteEvent.cpp (2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426960"/>
            <a:ext cx="18288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put the file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819520" y="609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95880" y="1101600"/>
            <a:ext cx="27432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e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strea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952520" y="1295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1863720"/>
            <a:ext cx="44956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termine whether the file was opened successfu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191120" y="2016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19920" y="2457360"/>
            <a:ext cx="22860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it the application if the file could not be ope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5029200" y="2762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2" dur="1" fill="hold"/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3" dur="1" fill="hold"/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0" y="0"/>
          <a:ext cx="6856560" cy="50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6858000" y="4572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riteEvent.cpp (3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990720"/>
            <a:ext cx="27432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gin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…whi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atement to store ev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90360" y="228240"/>
            <a:ext cx="46479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1828800"/>
            <a:ext cx="198144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tain the event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3048120" y="1294920"/>
            <a:ext cx="2590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91320" y="2895480"/>
            <a:ext cx="25146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tain the event time, price, name and 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91320" y="3352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3733560" y="2362320"/>
            <a:ext cx="2057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3886200" y="2971440"/>
            <a:ext cx="1905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809880" y="3200400"/>
            <a:ext cx="19814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4267080" y="3200400"/>
            <a:ext cx="15242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46" dur="1" fill="hold"/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47" dur="1" fill="hold"/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48" dur="1" fill="hold"/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49" dur="1" fill="hold"/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50" dur="1" fill="hold"/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0" y="0"/>
          <a:ext cx="6856560" cy="351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35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6858000" y="4572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riteEvent.cpp (4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38680" y="990720"/>
            <a:ext cx="30481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end the event date, time, price, name and description to the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4724280" y="76176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1905120"/>
            <a:ext cx="22860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termine whether there are more events to 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3733560" y="1447920"/>
            <a:ext cx="19047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62720" y="2819520"/>
            <a:ext cx="266688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…whi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loop repeats until the user indicates that there are no more events to 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3428640" y="2286000"/>
            <a:ext cx="21337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7" dur="1" fill="hold"/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78" dur="1" fill="hold"/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While the user has not entered the sentinel value to exit the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Prompt the user for and store a day of the mon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Open calendar.txt file to read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While there are events left in th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If the current event is for the day selected by the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Read the event information from th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Display the event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Read the next event’s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If there are no events for the specified day</a:t>
            </a:r>
            <a:br>
              <a:rPr sz="2000"/>
            </a:b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Display a message indicating that there are no events for that da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6160" y="1263600"/>
            <a:ext cx="62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2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seudocode for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cket Inform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icke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ormation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icke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ormation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674800" y="1981080"/>
            <a:ext cx="6240600" cy="15051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Ev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termines wheth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lendar.t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ains an event on the date the user spec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0320" y="1415880"/>
            <a:ext cx="505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2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ok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isplayEv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320" y="2514600"/>
            <a:ext cx="25146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l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isplayEv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90920" y="28195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icke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ormation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446200" y="2405160"/>
            <a:ext cx="6240600" cy="29145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04280" y="1616040"/>
            <a:ext cx="66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8.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th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Ev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unction defin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320" y="3921120"/>
            <a:ext cx="22096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ing local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0" y="41148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97" dur="1" fill="hold"/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98" dur="1" fill="hold"/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icke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ormation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522520" y="2548080"/>
            <a:ext cx="6240600" cy="26287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65320" y="1714680"/>
            <a:ext cx="872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2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ng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strea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bject and open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endar.tx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ile for rea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3051000"/>
            <a:ext cx="221004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ing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strea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bject that opens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endar.tx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362320" y="34322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4114800"/>
            <a:ext cx="213372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iting the application if the file could not be ope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286000" y="4419360"/>
            <a:ext cx="1371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17" dur="1" fill="hold"/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18" dur="1" fill="hold"/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icke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ormation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590920" y="2133720"/>
            <a:ext cx="6240240" cy="26287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491040" y="1547640"/>
            <a:ext cx="472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2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ing the first date from th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2405160"/>
            <a:ext cx="16002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ding the date of the first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981080" y="2709720"/>
            <a:ext cx="1524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3319560"/>
            <a:ext cx="213336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eating while there is more data in the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36241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4876920"/>
            <a:ext cx="822960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le input stream function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there is no more data in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nds for “end-of-fi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37" dur="1" fill="hold"/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38" dur="1" fill="hold"/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6240600" cy="40672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12200" y="1339920"/>
            <a:ext cx="58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2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quentially reading event entries from th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icke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ormation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2908440"/>
            <a:ext cx="144756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putting event information from a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3352680"/>
            <a:ext cx="17528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4267080"/>
            <a:ext cx="16002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ing ev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981080" y="4419360"/>
            <a:ext cx="17528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57" dur="1" fill="hold"/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58" dur="1" fill="hold"/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icke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ormation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446200" y="1976400"/>
            <a:ext cx="6240600" cy="37720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88520" y="1415880"/>
            <a:ext cx="44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3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ding the next date in th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6320" y="2746440"/>
            <a:ext cx="228600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atement reads and discards information for incorrect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362320" y="32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" y="4302000"/>
            <a:ext cx="19810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ding the next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09680" y="44546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77" dur="1" fill="hold"/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78" dur="1" fill="hold"/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icke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ormation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14440" y="2224080"/>
            <a:ext cx="81151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icke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ormation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766880" y="3110040"/>
            <a:ext cx="5610240" cy="15048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91400" y="1928880"/>
            <a:ext cx="549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3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ck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0" y="0"/>
          <a:ext cx="6856560" cy="551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6934320" y="380880"/>
            <a:ext cx="220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cketInformation.cpp (1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0" y="0"/>
          <a:ext cx="6856560" cy="551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6934320" y="380880"/>
            <a:ext cx="220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cketInformation.cpp (2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638680" y="1219320"/>
            <a:ext cx="312444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l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isplayEv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2514600" y="914400"/>
            <a:ext cx="3124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0" y="0"/>
          <a:ext cx="6856560" cy="37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37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6934320" y="380880"/>
            <a:ext cx="220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cketInformation.cpp (3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0" y="0"/>
          <a:ext cx="6856560" cy="626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62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6934320" y="380880"/>
            <a:ext cx="220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cketInformation.cpp (4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562720" y="1447920"/>
            <a:ext cx="20574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e local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276720" y="16002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91320" y="2743200"/>
            <a:ext cx="29718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strea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bject that opens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endar.tx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3962520" y="3048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19920" y="4114800"/>
            <a:ext cx="236196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it the application if the file could not be ope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5029200" y="4419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791320" y="5334120"/>
            <a:ext cx="27432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d the date of the first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2361960" y="54864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13" dur="1" fill="hold"/>
                                  <p:tgtEl>
                                    <p:spTgt spid="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14" dur="1" fill="hold"/>
                                  <p:tgtEl>
                                    <p:spTgt spid="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0" y="0"/>
          <a:ext cx="6856560" cy="525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6934320" y="685800"/>
            <a:ext cx="220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cketInformation.cpp (5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952880" y="187200"/>
            <a:ext cx="36576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eat while there is more data in the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3124080" y="33984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752480"/>
            <a:ext cx="21337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put ev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029200" y="190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159000"/>
            <a:ext cx="23623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 ev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038120" y="331164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41" dur="1" fill="hold"/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42" dur="1" fill="hold"/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0" y="0"/>
          <a:ext cx="6856560" cy="450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6934320" y="380880"/>
            <a:ext cx="220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cketInformation.cpp (6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257800" y="990720"/>
            <a:ext cx="31240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atement reads and discards event information for incorrect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657240" y="83808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943600" y="2590920"/>
            <a:ext cx="17524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d the next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2666880" y="27432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61" dur="1" fill="hold"/>
                                  <p:tgtEl>
                                    <p:spTgt spid="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62" dur="1" fill="hold"/>
                                  <p:tgtEl>
                                    <p:spTgt spid="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icke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ormation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66880" y="3224160"/>
            <a:ext cx="5610240" cy="1276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89960" y="1852560"/>
            <a:ext cx="570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cket Inform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’s initial promp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icke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ormation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152880" y="2514600"/>
            <a:ext cx="5610240" cy="1619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90320" y="1776240"/>
            <a:ext cx="69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cket Inform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displaying event inform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3311640"/>
            <a:ext cx="25146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ent information display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346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" dur="1" fill="hold"/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" dur="1" fill="hold"/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icke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ormation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66880" y="3110040"/>
            <a:ext cx="5610240" cy="1504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91040" y="1776240"/>
            <a:ext cx="66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 Ev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enables user to store event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icke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ormation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66880" y="2168640"/>
            <a:ext cx="5610240" cy="1047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h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tring that identifies a file by a series of directories separated b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” in UNIX-based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\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in Wind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resents the parent directory of the current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6720" y="1523880"/>
            <a:ext cx="634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pt displayed after the file is opened successful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icke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ormation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66880" y="3052800"/>
            <a:ext cx="5610240" cy="1619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42960" y="1943280"/>
            <a:ext cx="477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ng an event 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endar.tx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8:46:22Z</dcterms:created>
  <dc:creator>Eric Winokur</dc:creator>
  <dc:description/>
  <dc:language>en-US</dc:language>
  <cp:lastModifiedBy>Pearson Education</cp:lastModifiedBy>
  <dcterms:modified xsi:type="dcterms:W3CDTF">2004-10-11T14:12:56Z</dcterms:modified>
  <cp:revision>204</cp:revision>
  <dc:subject/>
  <dc:title>Tutorial 18 – Ticket Information Application: Introducing Sequential Access Files</dc:title>
</cp:coreProperties>
</file>